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FC6-5FFC-4605-BC5E-2C188C34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5A8-F4C2-4D18-8E63-1960ED9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F66-9DBF-4BE0-BC36-4C226A32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512-6BFF-4F97-A13A-AA2FB566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8A3-5398-40F2-AC7F-FC6E57D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8B4-9B05-44DE-8384-AB82255A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E88-357B-4100-9614-DE7142E6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65D-F914-4CA2-A943-994E815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02A-8D5B-4018-ACF8-DA0E8D8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137-38D7-4CB9-AD8D-C15E75F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763-AD0F-4B49-9131-93203E0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37E-E5E5-44B3-BD74-8A23081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956F8-5E69-46EB-B940-73BB1B4747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68B8C-FEDC-4F27-A2BE-9F3C372DF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INA BALCACE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T7240</a:t>
            </a:r>
            <a:fld id="{66783AEC-5704-463F-AB7A-7D69103D2590}" type="slidenum">
              <a:rPr b="0" lang="en-US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APPENS WHEN I DO NOT HAVE ENOUGH CALCIUM IN MY BOD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BONES BECOME WEEK AND YOU GET DISEASES LIKE OSTEOPO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NFORMATION OF 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52480" y="2057400"/>
          <a:ext cx="5486400" cy="2941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IC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78 a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0°C (1112.15K,1542.2°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ILL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ALIN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structure of Calcium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2"/>
          <a:stretch/>
        </p:blipFill>
        <p:spPr>
          <a:xfrm>
            <a:off x="450720" y="1573200"/>
            <a:ext cx="82425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atomic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Gsf7jhWr6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I get Calciu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37:02Z</dcterms:created>
  <dc:creator>College of Education</dc:creator>
  <dc:description/>
  <dc:language>en-US</dc:language>
  <cp:lastModifiedBy>College of Education</cp:lastModifiedBy>
  <dcterms:modified xsi:type="dcterms:W3CDTF">2009-07-25T18:55:35Z</dcterms:modified>
  <cp:revision>5</cp:revision>
  <dc:subject/>
  <dc:title>CALCIUM</dc:title>
</cp:coreProperties>
</file>